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D36E-0120-4B4E-A9D2-5F7A6234E4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0D40-E78B-40D2-BCCA-FE8D2C75B1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C224-52DA-4C01-BFFC-EB0189CDF2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16F-193D-4CA4-81FD-0C6503FE1E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1E8-8AA8-4C7B-BD2A-9479AF4BA0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64A-8178-4813-9CAE-600500AAB8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D5A3-E687-4ADE-9C78-16BE14FB33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3B1-D2A8-4121-96A6-64EADE40D9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DC6-8479-48CF-93B3-5CBEB2472D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/>
          <a:stretch/>
        </p:blipFill>
        <p:spPr>
          <a:xfrm>
            <a:off x="6732720" y="587700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pt-BR" sz="4400" spc="-1" strike="noStrike">
                <a:solidFill>
                  <a:srgbClr val="3333cc"/>
                </a:solidFill>
                <a:latin typeface="Times New Roman"/>
              </a:rPr>
              <a:t>upply </a:t>
            </a:r>
            <a:r>
              <a:rPr b="1" i="1" lang="pt-BR" sz="4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pt-BR" sz="4400" spc="-1" strike="noStrike">
                <a:solidFill>
                  <a:srgbClr val="3333cc"/>
                </a:solidFill>
                <a:latin typeface="Times New Roman"/>
              </a:rPr>
              <a:t>hain </a:t>
            </a:r>
            <a:r>
              <a:rPr b="1" i="1" lang="pt-BR" sz="4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pt-BR" sz="4400" spc="-1" strike="noStrike">
                <a:solidFill>
                  <a:srgbClr val="3333cc"/>
                </a:solidFill>
                <a:latin typeface="Times New Roman"/>
              </a:rPr>
              <a:t>anagement</a:t>
            </a:r>
            <a:br>
              <a:rPr sz="4400"/>
            </a:br>
            <a:r>
              <a:rPr b="0" i="1" lang="pt-BR" sz="3600" spc="-1" strike="noStrike">
                <a:solidFill>
                  <a:srgbClr val="3333cc"/>
                </a:solidFill>
                <a:latin typeface="Times New Roman"/>
              </a:rPr>
              <a:t>Gerenciamento da Cadeia Produ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4292280"/>
            <a:ext cx="640080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mulo Barr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mulotb@hotmail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415360" cy="55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. Concentre nas Alianças e nos Relacionamentos entre os elos da cade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atores Críticos no Relac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 do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eqüência de Vis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ítica de Distribuição (atra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ucr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ipo de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ção em Campanhas Promo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uia do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icionamento do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7464600" y="2895480"/>
            <a:ext cx="1679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2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7. Desenvolva Medidas e Indicadores de desempenho baseadas no consumidor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ém disso, gerenciar os nossos distrib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Penetra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Eficiênc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Freqüência de Visit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410080" y="2819520"/>
            <a:ext cx="312444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compram - não comp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Arial"/>
              </a:rPr>
              <a:t>nº total de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410080" y="3733920"/>
            <a:ext cx="3124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nº locais que comp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Arial"/>
              </a:rPr>
              <a:t>nº total de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34120" y="4724280"/>
            <a:ext cx="31240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nº locais que comp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Arial"/>
              </a:rPr>
              <a:t>nº total de locais vis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8534520" y="25909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4120" y="5638680"/>
            <a:ext cx="31240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nº visitas fe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Arial"/>
              </a:rPr>
              <a:t>nº total de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09480" y="25909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5257800" y="25909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609480" y="25909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609480" y="65530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609480" y="35812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609480" y="457200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609480" y="55627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CR - Efficient Consumer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15520"/>
            <a:ext cx="777240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CR é uma iniciativa estratégica que visa romper as barreiras da cadeia de suprimentos diminuindo custos e tempo que adicionam pouco ou nenhum valor ao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 que EC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15360" cy="51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métodos atuais utilizados para comprar, vender e movimentar bens são in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dutores, distribuidores, varejistas e provedores de Supply Chain devem reinventar as relações de negó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preciso mudar para remover excesso de camadas de estoques e custos redund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queles que não efetuarem mudanças, não sobreviver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money"/>
          <p:cNvPicPr/>
          <p:nvPr/>
        </p:nvPicPr>
        <p:blipFill>
          <a:blip r:embed="rId1"/>
          <a:srcRect l="0" t="20018" r="0" b="20018"/>
          <a:stretch/>
        </p:blipFill>
        <p:spPr>
          <a:xfrm>
            <a:off x="7238880" y="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762120" y="1828800"/>
            <a:ext cx="7696080" cy="3885480"/>
            <a:chOff x="762120" y="1828800"/>
            <a:chExt cx="7696080" cy="3885480"/>
          </a:xfrm>
        </p:grpSpPr>
        <p:sp>
          <p:nvSpPr>
            <p:cNvPr id="137" name="Rectangle 4"/>
            <p:cNvSpPr/>
            <p:nvPr/>
          </p:nvSpPr>
          <p:spPr>
            <a:xfrm>
              <a:off x="762120" y="3323520"/>
              <a:ext cx="7696080" cy="2390760"/>
            </a:xfrm>
            <a:prstGeom prst="rect">
              <a:avLst/>
            </a:prstGeom>
            <a:gradFill rotWithShape="0">
              <a:gsLst>
                <a:gs pos="0">
                  <a:srgbClr val="57576d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901800" y="481212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ornec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6" descr="j0185091(p)"/>
            <p:cNvPicPr/>
            <p:nvPr/>
          </p:nvPicPr>
          <p:blipFill>
            <a:blip r:embed="rId1"/>
            <a:srcRect l="18748" t="0" r="18748" b="12518"/>
            <a:stretch/>
          </p:blipFill>
          <p:spPr>
            <a:xfrm>
              <a:off x="1386000" y="1828800"/>
              <a:ext cx="891000" cy="26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7" descr="ph03951i(p)"/>
            <p:cNvPicPr/>
            <p:nvPr/>
          </p:nvPicPr>
          <p:blipFill>
            <a:blip r:embed="rId2"/>
            <a:srcRect l="0" t="18748" r="0" b="18748"/>
            <a:stretch/>
          </p:blipFill>
          <p:spPr>
            <a:xfrm>
              <a:off x="3049920" y="2127240"/>
              <a:ext cx="1663920" cy="22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3227400" y="4812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ústr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Picture 9" descr="ph03225i(p)"/>
            <p:cNvPicPr/>
            <p:nvPr/>
          </p:nvPicPr>
          <p:blipFill>
            <a:blip r:embed="rId3"/>
            <a:srcRect l="18748" t="0" r="18748" b="12518"/>
            <a:stretch/>
          </p:blipFill>
          <p:spPr>
            <a:xfrm>
              <a:off x="7279560" y="1828800"/>
              <a:ext cx="9399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/>
            <p:cNvSpPr/>
            <p:nvPr/>
          </p:nvSpPr>
          <p:spPr>
            <a:xfrm>
              <a:off x="5216760" y="4812120"/>
              <a:ext cx="173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istribu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7347600" y="48121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are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Object 12" descr=""/>
            <p:cNvPicPr/>
            <p:nvPr/>
          </p:nvPicPr>
          <p:blipFill>
            <a:blip r:embed="rId4"/>
            <a:stretch/>
          </p:blipFill>
          <p:spPr>
            <a:xfrm>
              <a:off x="4991400" y="2725560"/>
              <a:ext cx="201024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jetiv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Integrar clientes, fornecedores, parceiros e funcioná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timizar processos em cada elo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a cadeia de supri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ormar comunidades de negó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ogística de Fornec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Compras"/>
          <p:cNvPicPr/>
          <p:nvPr/>
        </p:nvPicPr>
        <p:blipFill>
          <a:blip r:embed="rId1"/>
          <a:stretch/>
        </p:blipFill>
        <p:spPr>
          <a:xfrm>
            <a:off x="609480" y="1163520"/>
            <a:ext cx="80010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ogística de Conec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ImpEx"/>
          <p:cNvPicPr/>
          <p:nvPr/>
        </p:nvPicPr>
        <p:blipFill>
          <a:blip r:embed="rId1"/>
          <a:stretch/>
        </p:blipFill>
        <p:spPr>
          <a:xfrm>
            <a:off x="685800" y="1092240"/>
            <a:ext cx="79246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ogística de Conec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Bancos"/>
          <p:cNvPicPr/>
          <p:nvPr/>
        </p:nvPicPr>
        <p:blipFill>
          <a:blip r:embed="rId1"/>
          <a:stretch/>
        </p:blipFill>
        <p:spPr>
          <a:xfrm>
            <a:off x="609480" y="1211400"/>
            <a:ext cx="8001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ogística de Distribui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ontrole de Esto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arantia de que a quantidade correta de cada item seja mantida em est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rmazenag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tenção de bens e materiais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os ou refrigerados, em instalações adequadas, alfandegada ou não alfand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Gestão de Transpor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 de carga através da utilizaçã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um ou mais modais de 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undo"/>
          <p:cNvPicPr/>
          <p:nvPr/>
        </p:nvPicPr>
        <p:blipFill>
          <a:blip r:embed="rId1"/>
          <a:stretch/>
        </p:blipFill>
        <p:spPr>
          <a:xfrm>
            <a:off x="533520" y="2505240"/>
            <a:ext cx="8115120" cy="1685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43120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415360" cy="25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ply Chain Management -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ção e Satisfação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CR - Efficient Consume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que EC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enefíc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5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umento de produtiv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dução no ciclo de comp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dução das necessidades de esto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Melhores preços de comp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ustos operacionais mais baix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umento da satisfação de 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5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omo sua empresa se relaciona com sua cadeia de supriment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ua empresa pratica o EC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ua reposição de estoque é automatizad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1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Qual a política de compras de sua empres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5" descr=""/>
          <p:cNvPicPr/>
          <p:nvPr/>
        </p:nvPicPr>
        <p:blipFill>
          <a:blip r:embed="rId1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"/>
          <p:cNvSpPr/>
          <p:nvPr/>
        </p:nvSpPr>
        <p:spPr>
          <a:xfrm>
            <a:off x="228600" y="3962520"/>
            <a:ext cx="8458200" cy="1904760"/>
          </a:xfrm>
          <a:prstGeom prst="rect">
            <a:avLst/>
          </a:prstGeom>
          <a:gradFill rotWithShape="0">
            <a:gsLst>
              <a:gs pos="0">
                <a:srgbClr val="57576d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upply Ch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415000" cy="13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ply Chain Management - Gerenciamento da Cadeia Prod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gração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4120" y="464832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nec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j0185091(p)"/>
          <p:cNvPicPr/>
          <p:nvPr/>
        </p:nvPicPr>
        <p:blipFill>
          <a:blip r:embed="rId2"/>
          <a:srcRect l="18748" t="0" r="18748" b="12518"/>
          <a:stretch/>
        </p:blipFill>
        <p:spPr>
          <a:xfrm>
            <a:off x="914400" y="3200400"/>
            <a:ext cx="97956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ph03951i(p)"/>
          <p:cNvPicPr/>
          <p:nvPr/>
        </p:nvPicPr>
        <p:blipFill>
          <a:blip r:embed="rId3"/>
          <a:srcRect l="0" t="18748" r="0" b="18748"/>
          <a:stretch/>
        </p:blipFill>
        <p:spPr>
          <a:xfrm>
            <a:off x="2743200" y="3352680"/>
            <a:ext cx="18288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2820600" y="46483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ú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4" descr="ph03225i(p)"/>
          <p:cNvPicPr/>
          <p:nvPr/>
        </p:nvPicPr>
        <p:blipFill>
          <a:blip r:embed="rId4"/>
          <a:srcRect l="18748" t="0" r="18748" b="12518"/>
          <a:stretch/>
        </p:blipFill>
        <p:spPr>
          <a:xfrm>
            <a:off x="7391520" y="3200400"/>
            <a:ext cx="103320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1"/>
          <p:cNvSpPr/>
          <p:nvPr/>
        </p:nvSpPr>
        <p:spPr>
          <a:xfrm>
            <a:off x="4953960" y="46483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7393320" y="4648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Object 23" descr=""/>
          <p:cNvPicPr/>
          <p:nvPr/>
        </p:nvPicPr>
        <p:blipFill>
          <a:blip r:embed="rId5"/>
          <a:stretch/>
        </p:blipFill>
        <p:spPr>
          <a:xfrm>
            <a:off x="4876920" y="3657600"/>
            <a:ext cx="22096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undo"/>
          <p:cNvPicPr/>
          <p:nvPr/>
        </p:nvPicPr>
        <p:blipFill>
          <a:blip r:embed="rId1"/>
          <a:stretch/>
        </p:blipFill>
        <p:spPr>
          <a:xfrm>
            <a:off x="533520" y="2505240"/>
            <a:ext cx="811512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upply Ch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415360" cy="46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rede de organizações envolvidas bilateralmente em diferentes processos e atividades que geram valor n forma de produtos e serviços até a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diç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oques Vi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o Fluxo e não da Re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tribuição Flex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fatura 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de Informação Avanç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undo"/>
          <p:cNvPicPr/>
          <p:nvPr/>
        </p:nvPicPr>
        <p:blipFill>
          <a:blip r:embed="rId1"/>
          <a:stretch/>
        </p:blipFill>
        <p:spPr>
          <a:xfrm>
            <a:off x="533520" y="2505240"/>
            <a:ext cx="8115120" cy="16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peração e Satisfação de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41536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azos de Entrega são longos e freqüentemente estão atras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didos são incompletos e er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difícil atender as solicitações d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ste muito atropelo e apress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oques altos do que não vende e falta do que v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ar em atender clientes e fornecedores torna-se uma tarefa pe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undo"/>
          <p:cNvPicPr/>
          <p:nvPr/>
        </p:nvPicPr>
        <p:blipFill>
          <a:blip r:embed="rId1"/>
          <a:stretch/>
        </p:blipFill>
        <p:spPr>
          <a:xfrm>
            <a:off x="533520" y="2505240"/>
            <a:ext cx="8115120" cy="168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640" y="1676160"/>
            <a:ext cx="841500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1. Comece pelo consumi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que eles quer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estão sendo atendid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eles nos vê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endemos suas necessidades e desej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que eles não gostam do que estamos faz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7" descr="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undo"/>
          <p:cNvPicPr/>
          <p:nvPr/>
        </p:nvPicPr>
        <p:blipFill>
          <a:blip r:embed="rId1"/>
          <a:stretch/>
        </p:blipFill>
        <p:spPr>
          <a:xfrm>
            <a:off x="533520" y="2505240"/>
            <a:ext cx="8115120" cy="16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6458040"/>
            <a:ext cx="9144000" cy="390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415360" cy="41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2. Administre os ativos logí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ministre estoques, transportes, depósitos, equipamentos,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mos tecnologia compatível com o nosso mercado / negóci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abemos exatamente mensurar nossos custos e o nosso retorno dos investiment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estão os nossos estoqu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bject 7" descr="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3. Gerencie a segmentação do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1066680" y="2579760"/>
            <a:ext cx="6934320" cy="3973320"/>
            <a:chOff x="1066680" y="2579760"/>
            <a:chExt cx="6934320" cy="3973320"/>
          </a:xfrm>
        </p:grpSpPr>
        <p:sp>
          <p:nvSpPr>
            <p:cNvPr id="85" name="Rectangle 5"/>
            <p:cNvSpPr/>
            <p:nvPr/>
          </p:nvSpPr>
          <p:spPr>
            <a:xfrm>
              <a:off x="1788480" y="3085200"/>
              <a:ext cx="5417280" cy="28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8185e"/>
                </a:gs>
              </a:gsLst>
              <a:lin ang="189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4533840" y="2579760"/>
              <a:ext cx="0" cy="3973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1066680" y="4530240"/>
              <a:ext cx="6934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8"/>
          <p:cNvSpPr/>
          <p:nvPr/>
        </p:nvSpPr>
        <p:spPr>
          <a:xfrm>
            <a:off x="1828800" y="3124080"/>
            <a:ext cx="153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gmento de Po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172200" y="320040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905120" y="541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icho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91320" y="541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icho 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46483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Baixa 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62920" y="46483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Alta 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24080" y="60199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Baixa 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819520" y="2514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ecessidades d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ncípios do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15360" cy="16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 Integre Vendas com o Planejamen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. Ajuste Efetivamente os Fornecedores e Fabric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762120" y="3733920"/>
            <a:ext cx="7467480" cy="2154240"/>
            <a:chOff x="762120" y="3733920"/>
            <a:chExt cx="7467480" cy="2154240"/>
          </a:xfrm>
        </p:grpSpPr>
        <p:grpSp>
          <p:nvGrpSpPr>
            <p:cNvPr id="99" name="Group 5"/>
            <p:cNvGrpSpPr/>
            <p:nvPr/>
          </p:nvGrpSpPr>
          <p:grpSpPr>
            <a:xfrm>
              <a:off x="762120" y="4092840"/>
              <a:ext cx="7467480" cy="1795320"/>
              <a:chOff x="762120" y="4092840"/>
              <a:chExt cx="7467480" cy="1795320"/>
            </a:xfrm>
          </p:grpSpPr>
          <p:sp>
            <p:nvSpPr>
              <p:cNvPr id="100" name="Line 6"/>
              <p:cNvSpPr/>
              <p:nvPr/>
            </p:nvSpPr>
            <p:spPr>
              <a:xfrm>
                <a:off x="762120" y="4092840"/>
                <a:ext cx="746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4495680" y="4092840"/>
                <a:ext cx="0" cy="179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AutoShape 8"/>
            <p:cNvSpPr/>
            <p:nvPr/>
          </p:nvSpPr>
          <p:spPr>
            <a:xfrm>
              <a:off x="1982520" y="4092840"/>
              <a:ext cx="165132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5285520" y="4092840"/>
              <a:ext cx="165132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5501160" y="3733920"/>
              <a:ext cx="136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2413440" y="3733920"/>
              <a:ext cx="136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2"/>
          <p:cNvSpPr/>
          <p:nvPr/>
        </p:nvSpPr>
        <p:spPr>
          <a:xfrm>
            <a:off x="609840" y="35053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Times New Roman"/>
              </a:rPr>
              <a:t>Fornec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809880" y="3124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Times New Roman"/>
              </a:rPr>
              <a:t>Conversão (fáb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936480" y="350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066320" y="4343400"/>
            <a:ext cx="31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Política de Compras e 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Logística com Fornec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Sinalizador de Flu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411880" y="4343400"/>
            <a:ext cx="17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Lanç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Promo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Des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601280" y="563868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Impa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Compatibilização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4648320" y="563868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Produção /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Terc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Monica Arakaki</dc:creator>
  <dc:description/>
  <dc:language>en-US</dc:language>
  <cp:lastModifiedBy>Romulo</cp:lastModifiedBy>
  <cp:lastPrinted>2000-07-13T14:55:11Z</cp:lastPrinted>
  <dcterms:modified xsi:type="dcterms:W3CDTF">2008-12-10T18:05:26Z</dcterms:modified>
  <cp:revision>127</cp:revision>
  <dc:subject/>
  <dc:title>Supply Chain Management</dc:title>
</cp:coreProperties>
</file>